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4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5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C8E02-4907-47F9-B6DD-8A91F0C8FD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394DC-6ADF-4AD1-BED9-739C7608316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6090C-70E4-40AE-AD64-C1182C2116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5212A-85DB-4980-BF07-8D818796B4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8A7BA-990E-48B7-ADDA-C9243BEBDC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5F8F1-01FE-43EC-8A0C-5AAD6E237A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A6929-C436-4578-9281-5F51A089C7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79271-2B23-48B8-BA0B-9C24609EC52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F667B-FEC1-4FA4-9DE0-74E028735D4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2C9E6-6C5D-4667-A237-B52C2533D45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36E2E-B883-4876-95B7-47BE02D5049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56A88-5CE0-41A6-9B93-F51E7E0461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CA215-A089-41AB-A3FA-045D3AB3B36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EB745-3125-4F15-90C4-12BB63D61B9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6DAFA-7099-476D-9A99-E507EAB25C9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82AFE-E681-4084-99CB-642B25659F1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53098-2DDD-4521-BFFD-C455FD59853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644FB-0813-4EE8-B099-A090EC2618C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DB61D-EC3C-41A2-A4AF-54B31ACDA64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47EE0-80CD-4291-884B-90DCD053CA1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EF341-15B5-49D4-A0DC-A45527AF8C7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D06AB-D573-49AB-8AD0-D99AB39D9D2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B9DC7-B9A9-4650-BACE-BCDFBD54799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0E7B3-C5B3-4110-9902-1188932DAD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80F1B-509B-4FCB-80FD-13F0B66130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72091-5B20-42ED-8A19-172A4B1FF4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631000" y="6421320"/>
            <a:ext cx="5688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AB080-6ABC-465E-830B-7F85D33B04A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grpSp>
        <p:nvGrpSpPr>
          <p:cNvPr id="39" name="Group 3"/>
          <p:cNvGrpSpPr/>
          <p:nvPr/>
        </p:nvGrpSpPr>
        <p:grpSpPr>
          <a:xfrm>
            <a:off x="2327400" y="5987880"/>
            <a:ext cx="3943080" cy="606600"/>
            <a:chOff x="2327400" y="5987880"/>
            <a:chExt cx="3943080" cy="606600"/>
          </a:xfrm>
        </p:grpSpPr>
        <p:pic>
          <p:nvPicPr>
            <p:cNvPr id="40" name="Picture 4" descr=""/>
            <p:cNvPicPr/>
            <p:nvPr/>
          </p:nvPicPr>
          <p:blipFill>
            <a:blip r:embed="rId4"/>
            <a:stretch/>
          </p:blipFill>
          <p:spPr>
            <a:xfrm>
              <a:off x="5162400" y="6121800"/>
              <a:ext cx="110808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5" descr=""/>
            <p:cNvPicPr/>
            <p:nvPr/>
          </p:nvPicPr>
          <p:blipFill>
            <a:blip r:embed="rId5"/>
            <a:stretch/>
          </p:blipFill>
          <p:spPr>
            <a:xfrm>
              <a:off x="3222720" y="6168600"/>
              <a:ext cx="1561320" cy="24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Picture 6" descr=""/>
            <p:cNvPicPr/>
            <p:nvPr/>
          </p:nvPicPr>
          <p:blipFill>
            <a:blip r:embed="rId6"/>
            <a:stretch/>
          </p:blipFill>
          <p:spPr>
            <a:xfrm>
              <a:off x="2327400" y="5987880"/>
              <a:ext cx="511200" cy="606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sldNum" idx="2"/>
          </p:nvPr>
        </p:nvSpPr>
        <p:spPr>
          <a:xfrm>
            <a:off x="8706960" y="64213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36875-25CB-4017-B626-5A8CA187261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"/>
          <p:cNvSpPr/>
          <p:nvPr/>
        </p:nvSpPr>
        <p:spPr>
          <a:xfrm>
            <a:off x="0" y="21337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4" descr="AR_WA_partners.jpg"/>
          <p:cNvPicPr/>
          <p:nvPr/>
        </p:nvPicPr>
        <p:blipFill>
          <a:blip r:embed="rId4"/>
          <a:stretch/>
        </p:blipFill>
        <p:spPr>
          <a:xfrm>
            <a:off x="1295280" y="3809880"/>
            <a:ext cx="6782040" cy="24717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684360" y="175212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925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ational Stakeholders’ Consultation Meeting on Livestock for Africa RISING Phase 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1"/>
          <p:cNvSpPr/>
          <p:nvPr/>
        </p:nvSpPr>
        <p:spPr>
          <a:xfrm>
            <a:off x="1835280" y="465300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5 – 16 November, 2016, Gariba Lodge, Tama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814716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Expected outputs  from the Mee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9152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iority research for development livestock issues for Phase 2 are identified and the proven technologies for sca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ey actors to be involved in the implementation of livestock related activities in Phase 2 are identified and their potential contribu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aft logframe (details of activities based on the Phase 2 proposal) with some indica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814716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Appro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9152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view of Phase 1 Livestock activities – achievements, gaps and lessons for Phase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roup Work to identify Priority issues for Phase 2 and draft Logfra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keholders’ analysis &amp; potential for collaboration based on identified priority iss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539640" y="1484280"/>
            <a:ext cx="77724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110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Rules for the worksh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10880">
              <a:spcBef>
                <a:spcPts val="601"/>
              </a:spcBef>
              <a:buClr>
                <a:srgbClr val="ec821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nctuality – Be on time alwa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0880">
              <a:spcBef>
                <a:spcPts val="601"/>
              </a:spcBef>
              <a:buClr>
                <a:srgbClr val="ec821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ticipation – Be an actor not a spect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0880">
              <a:spcBef>
                <a:spcPts val="601"/>
              </a:spcBef>
              <a:buClr>
                <a:srgbClr val="ec821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unication – Speak ou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0880">
              <a:spcBef>
                <a:spcPts val="601"/>
              </a:spcBef>
              <a:buClr>
                <a:srgbClr val="ec821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reciation – Appreciate contribution of oth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0880">
              <a:spcBef>
                <a:spcPts val="601"/>
              </a:spcBef>
              <a:buClr>
                <a:srgbClr val="ec821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centration – Avoid distra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0880">
              <a:spcBef>
                <a:spcPts val="601"/>
              </a:spcBef>
              <a:buClr>
                <a:srgbClr val="ec821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novation – Let’s think out of the bo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0880">
              <a:spcBef>
                <a:spcPts val="601"/>
              </a:spcBef>
              <a:buClr>
                <a:srgbClr val="ec821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lebration – There is always something to celebrate, look for it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0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0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0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799128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alibri"/>
              </a:rPr>
              <a:t>Lead Institut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Calibri"/>
              </a:rPr>
              <a:t>IITA Ibad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alibri"/>
              </a:rPr>
              <a:t>Funding Agenc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Calibri"/>
              </a:rPr>
              <a:t>USA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alibri"/>
              </a:rPr>
              <a:t>Dura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Calibri"/>
              </a:rPr>
              <a:t>Phase 1: 2012 – 2016; Phase 2: 2016 - 202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alibri"/>
              </a:rPr>
              <a:t>Project Partner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Calibri"/>
              </a:rPr>
              <a:t>AVRDC, ICRAF, ICRISAT, ILRI, IWMI, ARI, SARI, UDS, KNU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57200" y="2514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o identify and evaluate demand-driven options for SI that contribute to rural poverty alleviation, improved nutrition, and ecosystem st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o evaluate, document, and share experiences with approaches for delivering and integrating innovations for SI in a way that will promote their uptake beyond AR action si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1087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Program Objectives</a:t>
            </a:r>
            <a:br>
              <a:rPr sz="3600"/>
            </a:br>
            <a:r>
              <a:rPr b="0" i="1" lang="en-GB" sz="3600" spc="-1" strike="noStrike">
                <a:solidFill>
                  <a:srgbClr val="ff0000"/>
                </a:solidFill>
                <a:latin typeface="Calibri"/>
              </a:rPr>
              <a:t>Resear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" y="2514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o create opportunities for smallholder farm household within AR action sites to move out of poverty and improve their nutritional status while maintaining or improving ecosystem st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o facilitate partner-led dissemination of integrated innovations for SI beyond the AR action si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1087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Program Objectives</a:t>
            </a:r>
            <a:br>
              <a:rPr sz="3600"/>
            </a:br>
            <a:r>
              <a:rPr b="0" i="1" lang="en-GB" sz="3600" spc="-1" strike="noStrike">
                <a:solidFill>
                  <a:srgbClr val="ff0000"/>
                </a:solidFill>
                <a:latin typeface="Calibri"/>
              </a:rPr>
              <a:t>Develop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1988640"/>
            <a:ext cx="77724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ductivity and resilience of smallholder crop-livestock systems in the Guinea and Sudan savanna zones of West Africa increa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roved household nutrition, food and feed safety, and value addition outpu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licies and institutions enable informed decision-making and equitable access to production assets and input and output marke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livery and uptake of SI innovations through the building of functional partnerships among research and development institutions enhanc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76201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615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Project Outcomes for Phase 2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762012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5000"/>
          </a:bodyPr>
          <a:p>
            <a:pPr marL="39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Livestock Activities in Phase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96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71600" y="2054160"/>
            <a:ext cx="7772400" cy="43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aluation of existing and potential feed resour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essment of promising livestock value chains to identify appropriate interven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nitoring of nutrient use in smallholder livestock production systems and identification of options for better nutrient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ffect of feed and health interventions on productivity of village flocks of sheep and goa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762012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5000"/>
          </a:bodyPr>
          <a:p>
            <a:pPr marL="39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Livestock Activities in Phase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96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71600" y="2054160"/>
            <a:ext cx="7772400" cy="43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ervation techniques for efficient use of crop residues as animal fe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tions to increase productivity of rural pig and poultry prod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nsifying integrated cereal-legume-livestock  cropping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762012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99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Rationale for Stakeholders’ Consultation Mee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777240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ommendations of the USAID Evaluation team on the need for more visibility of livestock in Africa RIS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oadening and strengthening of partnership for Africa RISING Phase 2 to deliver particularly the scaling of livestock technolog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ing a livestock research strategy  for Phase 2 to increase visibility of livestock-related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develop more linkages between crop-livestock diversification and human nutr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814716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99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Objectives of Stakeholders’ Consultation Mee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9152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review achievements and lessons from livestock related activities under Africa RISING Phase 1 – both processes and produ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identify research for development livestock priority issues to focus on in Phase 2 in consonant with the project proposal and recommendations of the USAID Evaluation te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conduct stakeholders analysis as to establish key actors needed for implementation of livestock activities under Phase 2 and elaborate on the opportunities for collaboration in case the actors are not involved in Phase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9T10:36:32Z</dcterms:created>
  <dc:creator>IZeledon</dc:creator>
  <dc:description/>
  <dc:language>en-US</dc:language>
  <cp:lastModifiedBy>AA</cp:lastModifiedBy>
  <cp:lastPrinted>2011-10-06T11:45:23Z</cp:lastPrinted>
  <dcterms:modified xsi:type="dcterms:W3CDTF">2016-11-14T16:36:16Z</dcterms:modified>
  <cp:revision>54</cp:revision>
  <dc:subject/>
  <dc:title>Slide 1</dc:title>
</cp:coreProperties>
</file>